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34C0-F4B5-4182-B046-CD8FD5062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2B85-1649-42E6-B1CC-FC9CF423F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BD93-8EEE-4265-A36D-9F34C52CD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15D9-3FD5-4EC8-8866-320109E56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F7DE2-547E-4C9E-9A0E-1E4932034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B3C7D-54C5-41A1-89E7-B79EA319D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F26DB-3DCA-4D58-95DE-C75E63ABF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316CF-D999-4DAE-B9BD-DD63129BE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ACDC7-0AB4-46F9-842B-6A1A52043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E6E10-63EB-4E10-BFDA-D1F3F59CF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A9A92-53F9-42B1-8EFE-821AB0E1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7D52-A19F-4D00-A03D-34BE25BE9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18850-6665-4057-9DBF-35558C36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CB8D3-CAF1-404B-A844-590AB19B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A8BFA-CF79-42C4-8BCD-2F9B5147F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54899-358C-4B3B-9F22-6CBD5421D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680B0-C259-49E5-965E-ED202DD59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0D991-0496-49F7-814F-676753C75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6EF07-FBE2-4355-81DD-42E424D81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00F3B-D8BC-4267-8CAF-81D910E86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A002B-FFE0-4D94-9D2B-8B775892C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ABFC2-F79C-4809-97DD-43A63F787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1274-F246-4ACC-A616-C2EC7B66C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6E1A4-1FB5-4663-B201-D0D75070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02644-0178-46ED-A806-CC5FBE15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7BBB4-7000-485C-A588-77B571B3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602B8-0CB6-4689-B84D-EE9B0FC2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ACFFE-0440-4144-873F-41E00C3A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D93B6-5FAE-42F8-96FA-406F967EC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FA117-DD9A-4953-B469-69B170C57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532A1-3A91-43EE-AA24-BD6BD1A6B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6BC54-787D-45D1-8149-68BBCC8F9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5B5FA-DC8D-46F6-8383-A070F55DF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5486-5191-4A7A-B28B-8D48BF2D3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49404-5DFA-4E5E-B01A-819BAB483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4E182-93B0-4D07-96C3-F9FA608AC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EE01A-67F6-4613-BA74-BC80111DC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F4FE3-4068-4EF6-B8CA-3CE0D8D2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87691-177F-4066-B594-94CCFD77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92326-F2F3-49D6-8C80-1D18CFE8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23D55-DE4C-42A0-A717-24B6BED8D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A327B-F952-4A2A-90A9-74A0EFCE4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4EEF7-428E-42AA-9AA1-358E4265C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07E6-113E-4C24-95EB-6FBC4799C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FABA-6129-4250-B30C-8DC9A7A08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60EF-245F-4F17-ADE8-C6E0D330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0E8B-B977-46BB-8A2D-22B53795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D0B0-BDDA-439A-BAB8-FF7E6648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E195F-0119-4D96-93B0-C8FFC14A9BFB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25679-DD51-48BD-B5DD-6AD1CB05E1D5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D8BF3-0C1C-4D3C-B6F1-56807190ECFF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59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Freeform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Freeform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DE894-C4C9-4B9B-996F-3BD4B765FCAA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1" descr=""/>
          <p:cNvPicPr/>
          <p:nvPr/>
        </p:nvPicPr>
        <p:blipFill>
          <a:blip r:embed="rId1"/>
          <a:stretch/>
        </p:blipFill>
        <p:spPr>
          <a:xfrm>
            <a:off x="291960" y="974880"/>
            <a:ext cx="8242560" cy="251136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24000" y="4005360"/>
            <a:ext cx="8642160" cy="1125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Учитель физики МБОУ «СОШ № 2 с УИОП» г.Лысьв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Фаткуллина Гульнара Аухатовн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530280" y="396720"/>
            <a:ext cx="7864560" cy="11700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533160" y="1844280"/>
            <a:ext cx="78548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2"/>
          <a:srcRect l="3295" t="3907" r="22035" b="18947"/>
          <a:stretch/>
        </p:blipFill>
        <p:spPr>
          <a:xfrm>
            <a:off x="642960" y="1857240"/>
            <a:ext cx="750240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530280" y="396720"/>
            <a:ext cx="7864560" cy="11700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533160" y="1844280"/>
            <a:ext cx="78548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Демоверсии, спецификации, кодификаторы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Формулы по физике 7-9 классы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Краткий справочный материал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493560" y="493560"/>
            <a:ext cx="7864560" cy="10242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33160" y="1844640"/>
            <a:ext cx="7854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рс «ГИА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1" name="Picture 5" descr=""/>
          <p:cNvPicPr/>
          <p:nvPr/>
        </p:nvPicPr>
        <p:blipFill>
          <a:blip r:embed="rId2"/>
          <a:srcRect l="0" t="10743" r="24232" b="23829"/>
          <a:stretch/>
        </p:blipFill>
        <p:spPr>
          <a:xfrm>
            <a:off x="168120" y="1928880"/>
            <a:ext cx="897588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530280" y="755640"/>
            <a:ext cx="7864560" cy="110340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533160" y="2060640"/>
            <a:ext cx="78548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4" name="Picture 5" descr=""/>
          <p:cNvPicPr/>
          <p:nvPr/>
        </p:nvPicPr>
        <p:blipFill>
          <a:blip r:embed="rId2"/>
          <a:stretch/>
        </p:blipFill>
        <p:spPr>
          <a:xfrm>
            <a:off x="971640" y="1989000"/>
            <a:ext cx="712944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530280" y="755640"/>
            <a:ext cx="7864560" cy="11034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533160" y="2060640"/>
            <a:ext cx="78548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2"/>
          <a:stretch/>
        </p:blipFill>
        <p:spPr>
          <a:xfrm>
            <a:off x="900000" y="1989000"/>
            <a:ext cx="64803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Апробация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1806480" y="1935000"/>
            <a:ext cx="55310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AutoShape 6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3" name="Рисунок 6" descr=""/>
          <p:cNvPicPr/>
          <p:nvPr/>
        </p:nvPicPr>
        <p:blipFill>
          <a:blip r:embed="rId1"/>
          <a:stretch/>
        </p:blipFill>
        <p:spPr>
          <a:xfrm>
            <a:off x="576360" y="1052640"/>
            <a:ext cx="80992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Чем обусловлен выбор курса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дготовка к итоговой аттестации должна носить системный характер. По каждой теме необходимо дать краткий справочник - конспект (основные определения, формулы, законы и пр.), примеры с решениями, тренировочные упражнения (на базовом и повышенном уровнях) и тест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облемы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неумение выполнять операции с переводом единиц  измерени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низкий процент верно решивших количественные и качественные задачи, а большинство вообще не приступали к решению этих задач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проблемы оформления решений в заданиях с развернутым ответом: многословность пояснения очевидных фактов, небрежность работы с формулами, ошибки при математических расчетах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21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зможности  </a:t>
            </a: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Google Form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395280" y="1143000"/>
            <a:ext cx="828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ю данного сервиса возможн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ть анкетирование учеников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ть тестирование учеников для контроля и проверки их знаний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стро обработать результаты анкетирования или тестировани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Достоинства </a:t>
            </a:r>
            <a:r>
              <a:rPr b="1" lang="en-US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Google Classroom</a:t>
            </a:r>
            <a:r>
              <a:rPr b="1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:</a:t>
            </a:r>
            <a:r>
              <a:rPr b="1" lang="en-US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50560" y="1125360"/>
            <a:ext cx="84978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правильности выполнения заданий осуществляется автоматически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ивность проверки знаний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увидеть сколько раз ученик выполнил данный тест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строе создание тестов и разного числа вариантов, автоматическая генерация заданий. Исключается списывани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изменить задания, добавить свои задани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озможность группировать задания по темам, выкладывать информацию в любой форм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озможность ограничить доступ к работе по времен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Недостатки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уп к сети Интернет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ение ПК каждому ученику на урок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каждого ученика обязательн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533160" y="2204640"/>
            <a:ext cx="7854840" cy="27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7" name="Заголовок 1" descr=""/>
          <p:cNvPicPr/>
          <p:nvPr/>
        </p:nvPicPr>
        <p:blipFill>
          <a:blip r:embed="rId1"/>
          <a:stretch/>
        </p:blipFill>
        <p:spPr>
          <a:xfrm>
            <a:off x="438120" y="182520"/>
            <a:ext cx="7888320" cy="11700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pic>
        <p:nvPicPr>
          <p:cNvPr id="219" name="Picture 5" descr=""/>
          <p:cNvPicPr/>
          <p:nvPr/>
        </p:nvPicPr>
        <p:blipFill>
          <a:blip r:embed="rId2"/>
          <a:srcRect l="11737" t="0" r="3038" b="18839"/>
          <a:stretch/>
        </p:blipFill>
        <p:spPr>
          <a:xfrm>
            <a:off x="0" y="1440000"/>
            <a:ext cx="9156600" cy="52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В самой структуре ОГЭ содержится указание на то, как можно выстроить подготовку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уществующий кодификатор позволяет разбить материал на несколько крупных тематических блоков, выстроив повторение по содержательным (механика, электричество, оптика, атомная физика и т.д.) линиям. Такой подход будет способствовать формированию более прочных знаний и, как следствие, более уверенному поведению выпускника на экзамене вне зависимости от того, в какой форме экзамен будет проводитьс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530280" y="396720"/>
            <a:ext cx="7864560" cy="117000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533160" y="1844280"/>
            <a:ext cx="78548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водное занят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еханические явлен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епловые явлен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Электромагнитные явлен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изика атома и атомного ядр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5T02:54:54Z</dcterms:created>
  <dc:creator>Лиля</dc:creator>
  <dc:description/>
  <dc:language>en-US</dc:language>
  <cp:lastModifiedBy>User</cp:lastModifiedBy>
  <dcterms:modified xsi:type="dcterms:W3CDTF">2021-11-23T19:29:51Z</dcterms:modified>
  <cp:revision>50</cp:revision>
  <dc:subject/>
  <dc:title>Использование сервиса Google Forms для организации контроля знаний обучающихся</dc:title>
</cp:coreProperties>
</file>